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2E8DE-BB27-41C3-828D-42CC4E8C2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2E373-74BA-4A5C-BDA6-21FD5497C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6F637-2D95-4DAC-AAD1-332F739C5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4BF14-8946-4E96-A09D-E65A7D014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DE96F-EBFF-479A-8209-64EB616A7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FE10E-01A2-48B7-8E7A-47E79861B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AEA1F-59DF-49EF-AEF6-CD7496BAF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AFADD-A087-4964-9C61-0FEDBB106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F9B9A-5C6A-4467-A94C-2E132FB5B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688C6-1993-42A4-9ECC-B5E4931EF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1777-5930-4497-9FC7-A135F949E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AA28-4E25-4BCB-9873-72A6DC8B2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32BADC-D42C-461A-AA91-A61A6E51E6AB}"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Hurricane Katrina</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y John Pelech</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1712880" y="1768320"/>
            <a:ext cx="6651720" cy="4989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eneral</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urricane Katrina was the fifth most powerful hurricane on record in the United State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wind speed of hurricane winds were 175 mph sustained (once it hit the gulf coast). Hurricane Katrina was considered a category three</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urricane. The damage that occurred was terribl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48" name="" descr=""/>
          <p:cNvPicPr/>
          <p:nvPr/>
        </p:nvPicPr>
        <p:blipFill>
          <a:blip r:embed="rId1"/>
          <a:stretch/>
        </p:blipFill>
        <p:spPr>
          <a:xfrm>
            <a:off x="1922400" y="1768320"/>
            <a:ext cx="6234120" cy="4989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How Did it happen?</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5230800"/>
          </a:xfrm>
          <a:prstGeom prst="rect">
            <a:avLst/>
          </a:prstGeom>
          <a:noFill/>
          <a:ln w="0">
            <a:noFill/>
          </a:ln>
        </p:spPr>
        <p:txBody>
          <a:bodyPr lIns="0" rIns="0" tIns="212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Hurricanes in general begin only in tropical</a:t>
            </a:r>
            <a:r>
              <a:rPr b="0" lang="en-US" sz="3200" spc="-1" strike="noStrike">
                <a:solidFill>
                  <a:srgbClr val="000000"/>
                </a:solidFill>
                <a:latin typeface="Arial"/>
              </a:rPr>
              <a:t> </a:t>
            </a:r>
            <a:r>
              <a:rPr b="0" lang="en-US" sz="2400" spc="-1" strike="noStrike">
                <a:solidFill>
                  <a:srgbClr val="000000"/>
                </a:solidFill>
                <a:latin typeface="Arial"/>
              </a:rPr>
              <a:t>regions because they have to have water that is over 80 in temperature to develop in to a hurricane . Hurricanes begin as tropical disturbance. the official NOAA definition is</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A discrete tropical weather system of apparently organized convection - generally 200 to 600 km (100 to 300 nmi) in diameter - originating in the tropics or subtropics, having a nonfrontal migratory character, and maintaining its identity for 24 hours or more. It may or may not be associated with a detectable perturbation of the wind field. Disturbances associated with perturbations in the wind field and progressing through the tropics from east to west are also known as easterly waves (NOAA.gov)"</a:t>
            </a:r>
            <a:endParaRPr b="0" lang="en-US" sz="24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2208240" y="1768320"/>
            <a:ext cx="5664240" cy="4989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Damage</a:t>
            </a: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9070920" cy="4989600"/>
          </a:xfrm>
          <a:prstGeom prst="rect">
            <a:avLst/>
          </a:prstGeom>
          <a:noFill/>
          <a:ln w="0">
            <a:noFill/>
          </a:ln>
        </p:spPr>
        <p:txBody>
          <a:bodyPr lIns="0" rIns="0" tIns="212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Most of the damage was concentrated to the gulf coast. It is thought that hurricane Katrina cause 105 billion dollars in damage. This damage is mainly concentrated in Louisiana. Even more specifically Hurricane Katrina destroyed the city of New Orleans. New Orleans was a city that was put underwater by the storm. New Orleans was under sea level and close to the ocean. to prevent flood from happening constantly the city decided to put up levees as protection. They were not rate for hurricane that level wind. In addition to levees being destroyed. In addition the storm surge was 28 feet high </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Hurricane killed mainly killed people who where closer to the coast of the gulf coast from storm surg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1265400" y="1768320"/>
            <a:ext cx="7546680" cy="4989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1T14:15:21Z</dcterms:created>
  <dc:creator/>
  <dc:description/>
  <dc:language>en-US</dc:language>
  <cp:lastModifiedBy/>
  <cp:revision>1</cp:revision>
  <dc:subject/>
  <dc:title/>
</cp:coreProperties>
</file>